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AEFD-805C-4B74-9725-B9C34D73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200E-1943-442B-A9E3-1B8B14AF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C639-7FB7-434B-95A8-22BB2AF9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E9D6-CEAF-404D-A9F5-D7325F39C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81E1-98FC-4D7C-BE39-E0C50B50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2BB7-652A-4A09-905F-5E56391D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6DCD-1FD6-4A01-A4ED-DA60F74D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ED17-9BF8-40EB-B813-B2F8D616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EC48-150A-4D3A-96A1-66A6914C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D04A-1A8C-4C7C-9A8B-2B328A25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6D7D-AAAA-444E-B19E-66005579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7A03-72DF-46D8-9EB7-1C09FC2C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3261-E1F0-493E-BB11-9B160DBC7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73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0" y="347760"/>
            <a:ext cx="457200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يا آبَ الحقِّ الرحمان خُذ منَّا هذا القربان، قُربانَ ابنِكَ الفادي بَحرِ الحبِّ والغفران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يا بكرَ الآبِ المحجوب يسوعُ الفادي المحبوب، حيٌّ أنتَ يا ابن الله حيٌّ أنتَ يا مَصلوب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لله الآب القادر والربِّ الابنِ الغافر والروحِ الحيّ الطاهِر غنُّوا المجدَ كلَّ آن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5T04:34:21Z</dcterms:created>
  <dc:creator>HANI SAFI</dc:creator>
  <dc:description/>
  <dc:language>en-US</dc:language>
  <cp:lastModifiedBy>HANI SAFI</cp:lastModifiedBy>
  <dcterms:modified xsi:type="dcterms:W3CDTF">2003-04-25T04:34:21Z</dcterms:modified>
  <cp:revision>1</cp:revision>
  <dc:subject/>
  <dc:title>Slide 1</dc:title>
</cp:coreProperties>
</file>